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CFB-4120-4205-9B6F-0E4E07EE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FCF-3597-4772-8E64-B23E6132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938-C489-4149-9605-8F9DDCF5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52F-1D65-4284-9060-6332A79C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C20-CAA6-44A9-A8F4-197AA9DB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D41-1619-486E-A4A8-9816AAF9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3D5-D048-43ED-A4AA-79FDA842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2EC-3A0B-4D96-90E2-7BF2E0D6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B2D-D0EF-4FB4-B3EF-29C52016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B68-588F-4DF2-883F-F98C2726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988-80E7-4C3A-ADFA-472549CB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E3A-7D25-438E-A9FB-42376A49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B5B9-228D-40A0-8A75-2A32629268B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dmartini16@gmail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igla%20UE%20col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808360" y="2565360"/>
            <a:ext cx="352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TAVOLI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OMBRELLI PROGETTUAL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516720" y="5805360"/>
            <a:ext cx="2376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00"/>
                </a:solidFill>
                <a:latin typeface="Times New Roman"/>
              </a:rPr>
              <a:t>Adriana Marti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dmartini16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00"/>
                </a:solidFill>
                <a:latin typeface="Times New Roman"/>
              </a:rPr>
              <a:t>11 Ottobre 20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685800" y="1413000"/>
            <a:ext cx="77724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Premessa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La valorizzazione del territorio e delle competenze è uno dei punti di forza del futuro economico dell’Europa in un ottica di crescita sostenibile e compatibile con l’ambiente e il delicato tessuto storico-antropologico del nostro continent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La progettazione integrata  è uno strumento indispensabile per una continua interazione tra le varie componenti di sviluppo del territori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Questa interazione si esprime con la realizzazione di progetto operativo, che vede ogni iniziativa come parte integrante di una realtà che è costituita da tutto il territor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685800" y="1268280"/>
            <a:ext cx="7772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La costruzione progettuale dovrà identificare anche gli strumenti per far acquisire i principali saperi teorici e tecnici necessari per mettere a punto strategie di conoscenza, elaborazione di progetti di recupero, valorizzazione e sviluppo e in particolare di costruire progetti di integrazione economica trasversal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Dato l’assunto che attraverso l’uso attento della programmazione comunitaria (sia a livello regionale che a Bruxelles) si possono notevolmente integrare e plasmare i finanziamenti per la realizzazione di iniziative complesse che toccano diversi piani della vita economica e sociale di un territorio, il primo passo da compiere è la costituzione  di un tavolo di lavoro progettua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826920" y="1700280"/>
            <a:ext cx="758700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755640" y="1341360"/>
          <a:ext cx="7632720" cy="5040360"/>
        </p:xfrm>
        <a:graphic>
          <a:graphicData uri="http://schemas.openxmlformats.org/drawingml/2006/table">
            <a:tbl>
              <a:tblPr/>
              <a:tblGrid>
                <a:gridCol w="3548160"/>
                <a:gridCol w="2219400"/>
                <a:gridCol w="1865160"/>
              </a:tblGrid>
              <a:tr h="2095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13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Il progetto “ombrello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Caratteristic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ottoprog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1952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 un’opportuna programmazione operativa che possiamo definire “progettazione integrata” i diversi aspetti di un’unica idea progettuale possono essere coperti combinando finanziamenti di diversi programm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logica vincente per utilizzare i finanziamenti su vari progetti è quella di adottare una visione integrata dei fabbisogni e delle caratteristiche dell'iniziativ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mitarsi in maniera esclusiva al settore di attività prioritario tende a privilegiare solo i bandi che fanno espressamente riferimento alla materia di interesse, con il rischio di una maggiore competizione in ambito ristret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'ombrello ha le seguenti caratteristich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) il manico dell' ombrello è l' IDEA GUIDA ATTORNO CUI COSTRUIRE LA PROGETTAZI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) il puntale rappresenta le finalità europee (inclusione, sostenibilità e nuovi lavori + green de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) le 6 stecche i 6 assi di base della progettazione integrata, di solito 3 a livello regionale e 3 a livello europe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etti struttura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etti urbanis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etti di programmazione economica e analisi dei fabbisog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etti di analisi del mercato e bench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etti di inclusione soci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etti di formazione di operatori specializz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etti di ricer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971640" y="1700280"/>
          <a:ext cx="7272360" cy="4249800"/>
        </p:xfrm>
        <a:graphic>
          <a:graphicData uri="http://schemas.openxmlformats.org/drawingml/2006/table">
            <a:tbl>
              <a:tblPr/>
              <a:tblGrid>
                <a:gridCol w="3381120"/>
                <a:gridCol w="1816200"/>
                <a:gridCol w="2075040"/>
              </a:tblGrid>
              <a:tr h="19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 tematiche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ratteristic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grammi/Fond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4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no da considerar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programmi che finanziano i trasferimenti di esperienze e le buone pratiche per assicurare il trasferimento di "know-how" e la crescita territoriale sostenibil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programmi che finanziano la definizione di scenari di sviluppo ed integrazion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programmi dedicati alle tecnolo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programmi che finanziano l’aggiornamento professionali degli operatori del sett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programmi di cooperazione interregionale trasversali su vari te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programmi regionali di svil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programmazione dei GAL territoriali per lo sviluppo loc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maggior parte di questi programmi prevedono partenariato locale e internazionale che bisogna fidelizza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ortante quindi selezionare i propri partner così che possano essere inseriti nei diversi progetti, dando valore aggiunto all’iniziativa stess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REG  sia transnazionali che  transfrontali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RASMUS + per la formazion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OPA CREATIVA e/o DIRITTI E VALORI per i gemellaggi e i progetti della società civile, la cultura e l’inclusi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SR (Fondi regional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SE (Fondo socia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S (Piano di sviluppo rura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1084320" y="1341360"/>
            <a:ext cx="7203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403280" y="1125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sempio Tavolo di lavoro già realizz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755640" y="2060640"/>
            <a:ext cx="7742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Sigla%20UE%20col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12:46Z</dcterms:created>
  <dc:creator>Falasconi</dc:creator>
  <dc:description/>
  <dc:language>en-US</dc:language>
  <cp:lastModifiedBy>Adriana</cp:lastModifiedBy>
  <dcterms:modified xsi:type="dcterms:W3CDTF">2024-10-10T23:37:00Z</dcterms:modified>
  <cp:revision>33</cp:revision>
  <dc:subject/>
  <dc:title>Presentazione di PowerPoint</dc:title>
</cp:coreProperties>
</file>