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A79-7A4E-4171-8F47-D9E40E09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843-E929-4D46-94BD-4639521F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D0D-3B6A-4DD6-A802-3765DB687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5A7-1B19-4786-8540-FDE48E50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2533-35BF-4C42-9608-4DC06B0D7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A595-DA66-4386-B6F5-BA98AC84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8470-DD00-47EB-8635-FE5573A9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4AFD-DA7F-4390-9896-063E578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E8BE-59F4-4939-A5CA-99E33066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6432-C371-410B-93D3-6224DC25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104B-DE25-4F74-919C-BE83F1D5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A6E8-E8A3-4823-9709-3870A82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B6FC-5B6E-40E1-8C88-2C45D93F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E1A5-A790-45D7-BB26-5BDA6923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2FC4-7A45-4F41-9473-E9B739E6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64B0-55D8-4623-B104-6CE8EEDB2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E3EC-956E-4CE1-9471-5329CA11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B4F7-5A43-4D88-9F7B-04DB86A2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93B14-DFF3-4886-9931-20B2A39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19ED-CA1F-4F1C-BFD5-1E1BF2B4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ADCB3-8A6F-40D5-8439-F321D14F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429D6-E62E-4CA9-9E63-B204E46E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F981-7AAB-4326-82EB-7B3EB68A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60161-8B4A-4443-9E5C-E57ADA40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972B-CCEF-4A39-A138-E205D276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1782B-709B-4072-89A3-17D96796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8008C-D494-439B-86F4-76BDF3C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71A79-8A65-48D0-A097-E1FC8A5F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8C4DB-983E-4A6F-9E87-53798360A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F6A73-D5FC-4E67-9A3B-0A7A5984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49A75-6867-462E-B93C-E7002229F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CEF48-6283-4952-811A-094E69E4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5CF4-8CDA-46D9-9B65-C429FFAA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AEB-F0BD-4CEC-AC4D-D100E47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0634-03A2-41C9-8D20-DD7D5D9F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5724-3AF8-41B8-9449-477F01CB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952D-EF9D-4F11-8CFD-1D9AA009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EBC52-7AED-4291-92CC-0B400EF3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20EE-166D-4E0F-967C-A643640D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381F6-107E-4248-AC2A-6F9B9D72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A2D82-252B-4BCD-B3F0-9E1C9981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8431F-831A-4815-9954-4D360BCD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05D3-D936-4B9B-8551-EBC22CA8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54ED-C036-45AC-A181-84221BA7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B5B-70A5-4E60-B6C4-8C752812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966-75B7-432B-8789-B9FCA962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DC4-6498-48C1-B0BE-BA81558F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545-D11B-4E06-A878-F5AD5A8A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45E4F7-B290-4B2B-97E1-A393B173D4D8}" type="slidenum">
              <a:rPr b="0" lang="it-I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180164-D6B3-41E8-96B2-E5433A24BE04}" type="slidenum">
              <a:rPr b="0" lang="it-I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B3054F-A210-488C-8858-945DBB310479}" type="slidenum">
              <a:rPr b="0" lang="it-I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75A8A2-7E51-43B4-8697-7C3CE613853C}" type="slidenum">
              <a:rPr b="0" lang="it-IT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Sigla%20UE%20colo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2808360" y="2565360"/>
            <a:ext cx="35272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EGGERE E COMPRENDERE LA PROGETTAZIONE EUROPEA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(con un focus sul PNRR)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443640" y="5661000"/>
            <a:ext cx="2305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Berlin Sans FB"/>
              </a:rPr>
              <a:t>Adriana Martin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Berlin Sans FB"/>
              </a:rPr>
              <a:t>25 Ottobre 2024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400" spc="-1" strike="noStrike">
                <a:solidFill>
                  <a:srgbClr val="ffff00"/>
                </a:solidFill>
                <a:latin typeface="Berlin Sans FB"/>
              </a:rPr>
              <a:t>admartini16@gmail.com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250920" y="1295280"/>
            <a:ext cx="7921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: i programmi a gestione diret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44" name="CasellaDiTesto 2"/>
          <p:cNvSpPr/>
          <p:nvPr/>
        </p:nvSpPr>
        <p:spPr>
          <a:xfrm>
            <a:off x="324000" y="1971720"/>
            <a:ext cx="792000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LIFE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Cittadini, uguaglianza, diritti e valori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Giustizia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ErasmusPlus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Horizon Europ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Mercato Unico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Europa Creativa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EU4Health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250920" y="1295280"/>
            <a:ext cx="799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: i programmi a gestione dirett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48" name="CasellaDiTesto 2"/>
          <p:cNvSpPr/>
          <p:nvPr/>
        </p:nvSpPr>
        <p:spPr>
          <a:xfrm>
            <a:off x="395280" y="2133720"/>
            <a:ext cx="8137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InvestEU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Europa Digitale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Corpo europeo di solidarietà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Meccanismo unionale di Protezione civile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Meccanismo per collegare l'Europa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Asilo, migrazione e integrazione 2021-2027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 Europa Global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250920" y="1295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52" name="CasellaDiTesto 2"/>
          <p:cNvSpPr/>
          <p:nvPr/>
        </p:nvSpPr>
        <p:spPr>
          <a:xfrm>
            <a:off x="468360" y="2133720"/>
            <a:ext cx="7272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’unico strumento operativo che possa consentire una programmazione e un utilizzo sinergico dei fondi strutturali e dei programmi a gestione diretta è la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ettazione integrata territorial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con la relativa costituzione di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avoli di lavoro tematici o intersettorial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 la costituzione di gruppi di lavoro formati dalle varie categorie della società operanti sul territorio è infatti possibile coordinare la definizione di nuove politiche, programmi e progetti, la cui concreta implementazione può trovare finanziamento attraverso sia i fondi strutturali, sia i programmi a gestione dirett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250920" y="1295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4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56" name="CasellaDiTesto 2"/>
          <p:cNvSpPr/>
          <p:nvPr/>
        </p:nvSpPr>
        <p:spPr>
          <a:xfrm>
            <a:off x="395280" y="1879560"/>
            <a:ext cx="7148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vorare in un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avolo di lavoro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ermette di costituire una rete di competenze tematiche o territoriali, creando una struttura che facilita e che in molti casi permette di ovviare alla mancanza di uffici di progettazione territoriale integrata che l’Unione Europea presupponeva ci fossero sul territorio (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</a:rPr>
              <a:t>e che in Italia in origine erano le province….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’utilità di favorire questi processi di collaborazione e integrazione nasce anche dalla complessità delle procedure e dalla necessità di costruire letture più attente e articolate, con il coinvolgimento di attori già presenti sul territorio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250920" y="1295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8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60" name="CasellaDiTesto 2"/>
          <p:cNvSpPr/>
          <p:nvPr/>
        </p:nvSpPr>
        <p:spPr>
          <a:xfrm>
            <a:off x="395280" y="1879560"/>
            <a:ext cx="727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l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lavoro di rete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i pone come modello progettuale privilegiato, che permette di individuare, promuovere, implementare e sostenere processi di collaborazione con il contesto sociale, con le organizzazioni e i soggetti che rappresentano la società civile, attivi sul territori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i può infatti intuire facilmente che è molto più difficile raggiunger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propr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obiettiv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strategici in modo indipendente dall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tr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organizzazion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agl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ltri attor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operativi.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l partenariato può avere la forma di «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iani di zona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», «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distrett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(sociali, culturali o quant’altro)», «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atti territorial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», tutte denominazione che comprendono il concetto di lavorare in ret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250920" y="1295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64" name="CasellaDiTesto 2"/>
          <p:cNvSpPr/>
          <p:nvPr/>
        </p:nvSpPr>
        <p:spPr>
          <a:xfrm>
            <a:off x="395280" y="1879560"/>
            <a:ext cx="7056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avoli di lavoro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permettono di avere gl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trumenti e le informazioni necessarie ad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una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deguata analisi dei problemi in campo e per un efficiente e non dispersivo impiego delle risorse al fine di evitare vuoti e sovrapposizion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l concetto-chiave delle varie forme di partenariato appare quello di “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rogrammazione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” in quanto in ognuno di ess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opera per produrre  una  programmazione  degli  obiettivi  e  delle  strategie  da perseguire per un dato territori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685800" y="1295280"/>
            <a:ext cx="77724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VALUTARE UN’IDEA PROGETTU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Durante la fase di predisposizione di un progetto europeo sono da valutare attentamente le seguenti  problematich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dentificazione degli obiettiv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essa a punto dell’ipotesi operativa e quantificazione dell’idea progett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dentificazione dello strumento finanziari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685800" y="129528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VALUTARE UN’IDEA PROGETTU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’identificazione degli obiettivi a livello transnazionale è uno dei punti qualificanti per la predisposizione di progetti europei miranti a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28560" indent="-18072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iglioramento delle iniziative pubbliche nei settori della gestione del territorio e della protezione e  valorizzazione dello stess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28560" indent="-18072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Realizzazione di reti che privilegino lo scambio dei dati e delle esperienze nel settor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28560" indent="-18072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ormazione ed incremento della professionalità degli operator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9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685800" y="129528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VALUTARE UN’IDEA PROGETTU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erché questo approccio sia concretamente attuabile, occorre capire come il proprio referente o capofila possa accedere ai finanziamenti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esto dato nasce dall’analisi di una serie di fattori che devono essere incrociati perché la risposta ai singoli quesiti crea il quadro di finanziamento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685800" y="1295280"/>
            <a:ext cx="777240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VALUTARE UN’IDEA PROGETTU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Fattori da valutare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l settore di attività: cultura, istruzione, politiche del territorio, , ecceter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 sede dove è ubicata la struttura che farà da capofila  (che può essere collocata in un’area obiettivo ammessa in via preferenziale a certi canali di finanziamento)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Gli elementi tecnici e umani impiegati e la loro composizione: risorse umane, risorse tecnologiche e strumentali, risorse relazionali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 tipologia di persone coinvolte nel progetto: giovani, donne, disabili, categorie svantaggiate, eccetera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61800" indent="-3618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e reti o i possibili partner che già cooperano con la struttur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6"/>
          <p:cNvSpPr/>
          <p:nvPr/>
        </p:nvSpPr>
        <p:spPr>
          <a:xfrm>
            <a:off x="685800" y="1125360"/>
            <a:ext cx="77724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Molti sono i siti e i documenti per conoscere e studiare i bandi, così da comprenderli effettivamente e poterli analizza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Comic Sans MS"/>
              </a:rPr>
              <a:t>Leggerli non vuol dire comprenderli, questa è una delle prime regole …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Gli strumenti offerti dalla Commissione europea e dalle autorità nazionali e regionali si sono evoluti negli anni e permettono di cercare i bandi in modo più semplice e lineare rispetto a quanto avveniva nelle precedenti programmazion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685800" y="1295280"/>
            <a:ext cx="7772400" cy="50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VALUTARE UN’IDEA PROGETTU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Limitarsi in maniera esclusiva al settore di attività prioritario può sicuramente tendere a privilegiare solo i bandi che fanno espressamente riferimento alla materia di interesse, con i seguenti rischi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da una parte una maggiore competizione con soggetti assimilabili alla organizzazione di riferimento con la conseguenza che può risultare più difficile “inventare” progetti con un grado sufficiente di originalità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buClr>
                <a:srgbClr val="ffff00"/>
              </a:buClr>
              <a:buSzPct val="150000"/>
              <a:buFont typeface="Comic Sans MS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2)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dall’altro si escludono dalla ricerca moltissimi bandi che possono concorrere alla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realizzazione del progetto, valutato però secondo una diversa angolazion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8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6"/>
          <p:cNvSpPr/>
          <p:nvPr/>
        </p:nvSpPr>
        <p:spPr>
          <a:xfrm>
            <a:off x="685800" y="1295280"/>
            <a:ext cx="719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 questa visione generale, si aggiunge negli ultimi anni la programmazione del PNR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ome noto, i PNRR sono il quadro attraverso il quale gli Stati membri definiscono in che modo intendono investire i circa 724 miliardi di euro messi a disposizione dal dispositivo per la ripresa e la resilienza, il piano dell’Unione Europea di risposta alla pandemia da Covid-19 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6"/>
          <p:cNvSpPr/>
          <p:nvPr/>
        </p:nvSpPr>
        <p:spPr>
          <a:xfrm>
            <a:off x="539640" y="1197000"/>
            <a:ext cx="7486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i tratta dunque di uno strumento inedito pensato per risollevare l’economia europea in un tempo relativamente breve dopo un evento di portata storic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È stato quindi creato un meccanismo che ha assegnato risorse ai vari paesi in base all’impatto della pandemia sulle loro economie e che consente alla Commissione di erogare diverse tranche di finanziamenti sulla base del raggiungimento di traguardi e obiettivi che sono scollegati dai progetti finanziati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4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6"/>
          <p:cNvSpPr/>
          <p:nvPr/>
        </p:nvSpPr>
        <p:spPr>
          <a:xfrm>
            <a:off x="611280" y="1104840"/>
            <a:ext cx="712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Nella maggior parte dei casi, gli obiettivi sono stati infatti concordati fra Commissione e governi nazionali, senza coinvolgere gli enti territoriali (Comuni e Regioni nel caso italiano) né nella fase di elaborazione né in quella di monitoraggio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 sintesi la programmazione del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è più centralizzata rispetto alla politica di coesione, che invece trova il suo fulcro nel coinvolgimento degli enti intermedi e viene quindi disegnata in base alle esigenze dei territori stess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7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611280" y="1104840"/>
            <a:ext cx="7126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 sintesi, il Next Generation EU (NGEU) è lo strumento che l’Unione Europea ha introdotto per la ripresa post pandemia Covid-19, per il rilancio dell’economia degli Stati membri e per rendere l’Europ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iù verde e più digital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E’ un pacchetto finanziario costituito da sovvenzioni e prestiti, la cui componente centrale è il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Dispositivo per la Ripresa e Resilienza (Recovery and Resilience Facility, RRF), 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he ha una durata di sei anni dal 2021 al 2026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6"/>
          <p:cNvSpPr/>
          <p:nvPr/>
        </p:nvSpPr>
        <p:spPr>
          <a:xfrm>
            <a:off x="611280" y="1104840"/>
            <a:ext cx="7345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erò la vera particolarità del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risiede nel fatto che rientra nell’inquadramento giuridico dei cosiddetti programmi “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a gestione dirett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” noti anche come programmi tematici, il più simile dei quali sembra essere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Horizon Europ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, il programma quadro per la ricerca e la tecnologi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A differenza degli altri strumenti esistenti, i piani approvati nell’ambito del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si attuano con un meccanismo di rendicontazione verso l’UE non connesso ai costi sostenuti ma al raggiungimento degli obiettivi qualitativi e quantitativ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3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6"/>
          <p:cNvSpPr/>
          <p:nvPr/>
        </p:nvSpPr>
        <p:spPr>
          <a:xfrm>
            <a:off x="611280" y="1104840"/>
            <a:ext cx="7126200" cy="66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sì facendo il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si discosta parecchio dai recenti orientamenti UE sui Fondi strutturali, che nella nuova Agenda sono attuati secondo criteri di semplificazione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nfatti grazie alle novità introdotte con il nuovo Regolamento UE 2021 nei fondi strutturali ci si prefigge di ridurre gli oneri amministrativi a carico degli organismi di gestione e dei beneficiari, mantenendo al contempo un livello adeguato di garanzia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embra quindi auspicabile l’introduzione di modalità semplificate e proporzionali, basati sull’esperienza dei Fondi strutturali, per garantire che il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possa essere utilizzato in modo complet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6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6"/>
          <p:cNvSpPr/>
          <p:nvPr/>
        </p:nvSpPr>
        <p:spPr>
          <a:xfrm>
            <a:off x="611280" y="1104840"/>
            <a:ext cx="7561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a Direzione generale della Commissione predisposta al controllo dei POR, per rafforzare ulteriormente l’accento posto sulle semplificazioni amministrative, ha pubblicato un apposito vademecum che descrive in termini sintetici ben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80 misure di semplificazione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– da cui il titolo “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Simplification Handbook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” – che investono l’intero ciclo della programmazione 2021 2027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Simplification Handbook - 80 simplification measures in cohesion policy 2021-202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https://ec.europa.eu/regional_policy/en/information/publications/factsheets/2018/simplification-handbook-80-simplification-measures-in-cohesion-policy-2021-202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Queste misure, infatti, interessano la formulazione dei Programmi operativi, la loro gestione, il monitoraggio in itinere ed anche le procedure di controllo amministrativo, tecnico e finanziario degli interventi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9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611280" y="1104840"/>
            <a:ext cx="756108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Fra l’altro, il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si potrà utilizzare fino al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2026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, mentre le risorse dei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Fondi Strutturali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otranno essere spese e rendicontate fino al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31.12.2029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 può dire che il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PNRR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è in effetti uno strumento generalista, che persegue una vasta gamma di obiettivi ritenuti utili per la ripartenza economica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Fondi Strutturali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, invece, hanno una missione chiaramente definita nel Trattato di Lisbona, che è quella di contribuire a ridurre i divari territoriali nei livelli di sviluppo fra le regioni europee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611280" y="1104840"/>
            <a:ext cx="756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ADRO GENERALE E PNR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er finire riportiamo uno stralcio del parere del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Comitato europeo delle regioni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pubblicato a febbraio di quest’anno sul 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futuro della politica di coesione dopo il 2027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Sottolinea che qualsiasi strumento futuro della politica di investimento, compreso un possibile strumento di follow-up del dispositivo per la ripresa e la resilienza (RRF), dovrebbe basarsi su tali principi ed essere attuato in regime di gestione concorrente, in linea con i principi di sussidiarietà e di governance multilivello condivis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457200" indent="-457200" algn="just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E’ convinto che, in linea con il principio del «non nuocere alla coesione», la Commissione dovrebbe riesaminare la governance dei futuri programmi gestiti a livello centrale per garantire che il loro impatto sia maggiormente in linea con le esigenze dei territori e tenga meglio conto della loro diversità, e per assicurare un migliore accesso a tali programmi da parte degli enti locali e regionali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85800" y="1125360"/>
            <a:ext cx="777240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Per il raggiungimento degli obiettivi programmatici la UE ha definito per il periodo 2021-2027 - come in tutte le agende precedenti -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i fondi strutturali e di investimento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, i cosiddetti finanziamenti 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gestione indirett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e  una serie di  finanziamenti 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gestione dirett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Quest’ultimi sono divisi in vari programmi, costituiscono un terzo del bilancio totale e sono rivolti a progetti di cooperazione in vari settori. Per esempio, ricerca e innovazione, energia, clima, salute, istruzione o cultur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9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Sigla%20UE%20color"/>
          <p:cNvPicPr/>
          <p:nvPr/>
        </p:nvPicPr>
        <p:blipFill>
          <a:blip r:embed="rId1"/>
          <a:stretch/>
        </p:blipFill>
        <p:spPr>
          <a:xfrm>
            <a:off x="1116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2808360" y="2565360"/>
            <a:ext cx="352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Grazie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per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</a:rPr>
              <a:t>l’attenzion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85800" y="1125360"/>
            <a:ext cx="777240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o scopo è quello di rafforzare la cooperazione regionale e internazionale tra i vari beneficiari, anche sotto forma di partenariati sistemic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ndizione fondamentale per il loro finanziamento è che la proposta presentata valorizzi il cosiddetto "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valore aggiunto europeo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"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sso misura il contributo apportato al raggiungimento degli obiettivi comunitari, al miglioramento della condizione dei cittadini europei nel loro complesso e alla facilitazione del trasferimento di conoscenze nel territorio europeo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250920" y="1295280"/>
            <a:ext cx="720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È possibile accedere ai bandi europei relativi ai programmi comunitari attraverso la piattaforma dedicata,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EU Funding &amp; Tenders Port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https://ec.europa.eu/info/funding-tenders/opportunities/portal/screen/opportunities/topic-search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elezionando nei filtri a sinistra i parametri desiderati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5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29" name="Immagine 1" descr=""/>
          <p:cNvPicPr/>
          <p:nvPr/>
        </p:nvPicPr>
        <p:blipFill>
          <a:blip r:embed="rId3"/>
          <a:stretch/>
        </p:blipFill>
        <p:spPr>
          <a:xfrm>
            <a:off x="468360" y="1557360"/>
            <a:ext cx="82929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250920" y="1295280"/>
            <a:ext cx="720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Programmi comunitari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e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fondi strutturali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coprono ognuno circa un quarto del bilancio comunitario 2021-2027 (rispettivamente, circ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350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e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420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miliardi di eur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Una parte importante è coperta dal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Dispositivo per la Ripresa e la Resilienza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(circ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310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miliardi di euro, se si esclude la parte dei prestiti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La parte restante è coperta dal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Fondo di Garanzia Agricola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e da altre voci di bilancio meno rilevanti per l’europrogettazione (circ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380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miliardi di euro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I programmi di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cooperazione territorial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finanziati attraverso uno dei fondi strutturali) rappresentano una quota esigua del bilancio comunitario (circa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miliardi di euro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250920" y="1295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36" name="CasellaDiTesto 1"/>
          <p:cNvSpPr/>
          <p:nvPr/>
        </p:nvSpPr>
        <p:spPr>
          <a:xfrm>
            <a:off x="468360" y="2205000"/>
            <a:ext cx="727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l ricorso da parte degli enti locali o del terzo settore a forme alternative di supporto finanziario quali quelle rappresentate, ad esempio, dalle risorse Ue per la realizzazione di servizi ed necessità legate allo sviluppo del territorio e delle proprie comunità, è iniziato con la crisi finanziaria di inizio millennio e le successive avversità, implementate poi dall’arrivo del COVID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i sono non poche difficoltà da parte degli enti locali o del terzo settore circa la capacità di intercettare il finanziamento giusto per una determinata problematica, nonché il problema dell’organizzazione e della pianificazione al fine di ottenere i risultati desiderati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250920" y="129528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STUDIARE I BAND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8" name="Picture 7" descr="eu-lippu"/>
          <p:cNvPicPr/>
          <p:nvPr/>
        </p:nvPicPr>
        <p:blipFill>
          <a:blip r:embed="rId1"/>
          <a:stretch/>
        </p:blipFill>
        <p:spPr>
          <a:xfrm>
            <a:off x="0" y="0"/>
            <a:ext cx="1600200" cy="107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eu-lippu"/>
          <p:cNvPicPr/>
          <p:nvPr/>
        </p:nvPicPr>
        <p:blipFill>
          <a:blip r:embed="rId2"/>
          <a:stretch/>
        </p:blipFill>
        <p:spPr>
          <a:xfrm>
            <a:off x="7543800" y="0"/>
            <a:ext cx="1600200" cy="1074600"/>
          </a:xfrm>
          <a:prstGeom prst="rect">
            <a:avLst/>
          </a:prstGeom>
          <a:ln w="0">
            <a:noFill/>
          </a:ln>
        </p:spPr>
      </p:pic>
      <p:sp>
        <p:nvSpPr>
          <p:cNvPr id="240" name="CasellaDiTesto 2"/>
          <p:cNvSpPr/>
          <p:nvPr/>
        </p:nvSpPr>
        <p:spPr>
          <a:xfrm>
            <a:off x="539640" y="1890720"/>
            <a:ext cx="7272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me tutti sappiamo, l’accesso ai fondi diretti sembra presentare spesso maggiori difficoltà, per vari motivi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si tratta di risorse programmate a un livello istituzionale più distante dai beneficiari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richiedono l’attivazione di un partenariato europeo per essere utilizzate e una maggior qualità progettuale, considerato che l’arena competitiva è più ampia, visto che concorrono tutti i paesi membri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3.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finanziano per lo più azioni di tipo immateriale, quali ad esempio la creazione di gruppi di lavoro e network per la messa a punto di progetti e politiche e lo scambio di buone pratiche;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4.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’ammontare medio per progetto è generalmente inferiore rispetto a quanto può essere garantito dai fondi strutturali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6:12:46Z</dcterms:created>
  <dc:creator>Falasconi</dc:creator>
  <dc:description/>
  <dc:language>en-US</dc:language>
  <cp:lastModifiedBy>Adriana</cp:lastModifiedBy>
  <dcterms:modified xsi:type="dcterms:W3CDTF">2024-10-24T11:03:48Z</dcterms:modified>
  <cp:revision>69</cp:revision>
  <dc:subject/>
  <dc:title>Presentazione di PowerPoint</dc:title>
</cp:coreProperties>
</file>