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5FE-4091-4789-A4E6-413CC28C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AD8-79E6-48AA-B1B1-E957234C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A0F-B30F-43AC-B705-BF6A037C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52C-4E35-4125-9DFB-5E69042B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8FF-7E99-4DDE-9F01-7DEC8A6F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F70-5206-477D-AE6C-2C73F69E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36A-3B64-4F42-BB6B-C2945E7F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46E-686A-4C5A-80D8-FA8B7568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5D1-DC14-42C6-84D9-ABE53BF8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1E8-C362-4BBB-AFB4-D3405E6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4A6-EF0B-429A-B750-DE65A828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4F9-1DF3-414C-9EB3-071E0A08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4B9D-2425-4029-B349-7B6FCEC50C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igla%20UE%20color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08360" y="2565360"/>
            <a:ext cx="35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a scheda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a ricer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88000" y="5805360"/>
            <a:ext cx="2314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00"/>
                </a:solidFill>
                <a:latin typeface="Times New Roman"/>
              </a:rPr>
              <a:t>Adriana Marti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00"/>
                </a:solidFill>
                <a:latin typeface="Times New Roman"/>
              </a:rPr>
              <a:t>admartini16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405080" y="2009880"/>
          <a:ext cx="6333840" cy="4057560"/>
        </p:xfrm>
        <a:graphic>
          <a:graphicData uri="http://schemas.openxmlformats.org/drawingml/2006/table">
            <a:tbl>
              <a:tblPr/>
              <a:tblGrid>
                <a:gridCol w="1554120"/>
                <a:gridCol w="4779720"/>
              </a:tblGrid>
              <a:tr h="1096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IT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cron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MA UE 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a dei possibili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" name="Rectangle 5"/>
          <p:cNvSpPr/>
          <p:nvPr/>
        </p:nvSpPr>
        <p:spPr>
          <a:xfrm>
            <a:off x="3418560" y="94716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modello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a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418560" y="94716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modello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a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5680" y="1974960"/>
          <a:ext cx="6092640" cy="4311720"/>
        </p:xfrm>
        <a:graphic>
          <a:graphicData uri="http://schemas.openxmlformats.org/drawingml/2006/table">
            <a:tbl>
              <a:tblPr/>
              <a:tblGrid>
                <a:gridCol w="6092640"/>
              </a:tblGrid>
              <a:tr h="54900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tesi dell'idea proge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0 caratter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7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418560" y="94716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modello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a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839960" y="1981080"/>
          <a:ext cx="5464080" cy="4114800"/>
        </p:xfrm>
        <a:graphic>
          <a:graphicData uri="http://schemas.openxmlformats.org/drawingml/2006/table">
            <a:tbl>
              <a:tblPr/>
              <a:tblGrid>
                <a:gridCol w="1339920"/>
                <a:gridCol w="4124160"/>
              </a:tblGrid>
              <a:tr h="449280">
                <a:tc gridSpan="2"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TTIVITA’ &amp; WORK PACK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grid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P1 (Manage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grid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P2 (Dissemin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grid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P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grid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grid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P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 gridSpan="2">
                  <a:txBody>
                    <a:bodyPr lIns="59040" rIns="590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 proget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 tot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 proget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418560" y="94716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modello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a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66840" y="3006720"/>
          <a:ext cx="6610320" cy="2682720"/>
        </p:xfrm>
        <a:graphic>
          <a:graphicData uri="http://schemas.openxmlformats.org/drawingml/2006/table">
            <a:tbl>
              <a:tblPr/>
              <a:tblGrid>
                <a:gridCol w="1668600"/>
                <a:gridCol w="571320"/>
                <a:gridCol w="571680"/>
                <a:gridCol w="571320"/>
                <a:gridCol w="569880"/>
                <a:gridCol w="685800"/>
                <a:gridCol w="685800"/>
                <a:gridCol w="685800"/>
                <a:gridCol w="600120"/>
              </a:tblGrid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P-PP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P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P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P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P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P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– WP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– WP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– WP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–  WP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– WP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CasellaDiTesto 4"/>
          <p:cNvSpPr/>
          <p:nvPr/>
        </p:nvSpPr>
        <p:spPr>
          <a:xfrm>
            <a:off x="3871800" y="2077920"/>
            <a:ext cx="151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Times New Roman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igla%20UE%20co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2:46Z</dcterms:created>
  <dc:creator>Falasconi</dc:creator>
  <dc:description/>
  <dc:language>en-US</dc:language>
  <cp:lastModifiedBy>Adriana</cp:lastModifiedBy>
  <dcterms:modified xsi:type="dcterms:W3CDTF">2024-10-04T10:31:37Z</dcterms:modified>
  <cp:revision>36</cp:revision>
  <dc:subject/>
  <dc:title>Presentazione di PowerPoint</dc:title>
</cp:coreProperties>
</file>